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3588-1A11-4D64-AA56-E118082C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A324-D156-4F0A-A89F-AFCDCA9AE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6064-7B4A-4CA1-AC64-6890B36D5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425C-0D73-416D-B6C0-1EDDCE88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2115-B470-4458-8BA0-9C48F23A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C615-CDED-4029-84A9-0A34CF62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28D-B68B-4A2D-8CC5-EB6E519A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074-AF90-4155-A220-C76EF697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45C5-A1E1-4E14-B6F9-975C2621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250-AB90-40A2-BFED-0D9034BD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8A7-1209-415C-BB27-5679BAC2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716-9798-4671-9987-FE52E6B3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040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324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040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324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B81-63A1-4CB0-ACB6-8BA46DC5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73B0-B337-45C3-BD25-41708A78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F9EB-0FC1-4B84-9E5E-AD377E61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A91B-4652-433D-877D-064463C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A46F-2EF2-4725-88C1-8536FC46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E509-9D4D-46FC-B344-6A6D88B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456840"/>
            <a:ext cx="6248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5E98-C512-4FBB-B242-DE647638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0681-531E-4B74-B051-8A8DF89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343-3915-4F6E-A344-28834E2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161A-E866-4F16-A512-AC1C147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494-012A-4C72-B890-3DDC784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2EA3-B6F9-46AF-AE50-E230ABE6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C01-20F7-4FE3-8B81-4A69E12E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040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324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040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324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F6F9-4886-4D33-A856-BE14CF90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01B-7107-4087-8EC7-FD6C91FE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5E6-BD4A-4DAF-AE01-DC33AC2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7A5-554E-463B-9703-736D8B25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456840"/>
            <a:ext cx="6248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003-CF6A-43F5-83EE-F61F94E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4F6-3CDE-4BBA-9301-9D5AAA4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8EA-91EA-4F78-BC8D-340126A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8ED-6024-44E5-B0B2-0D873A7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95520" y="6244920"/>
            <a:ext cx="162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ABF3-6F4D-4E29-93BD-D61EFA4BD4B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095880" y="6244920"/>
            <a:ext cx="163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5C9-FDA1-42F8-87D5-3C90F289C57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sychological Bases for  Curriculum Decision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dividual Differen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nciples of Lear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havioris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umanis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lighting the Rewards of Lear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cial and Cultural Forc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ditional Curriculu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urriculum Challeng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fluen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litical Press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mediate Commun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QUESTIONS THAT TEACHERS NEED TO AS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ES THE CONTENT RELA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CAN I ORGANIZE AND PRESEN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N I ORGANIZE IN A LOGICAL SEQUENC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CAN I RELATE CONTENT TO PUPILS’ EXPERIENC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UBJECT MATTER AND ITS ROLE IN DECISION MAKING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TO TEA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EN TO TEA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ED TO TRY HARD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UARDING AGAINST PATCH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RITERIA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LECTING CONT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LANCE OF SURVEY AND DEPT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ROPRIATEN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UR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 OF FACTS AND MAIN CONCEP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LLUMINATING WITH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RGANIZ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OAD FIEL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RE PROGRA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IFE SIT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UPILS’ EXPERI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PECIAL PROBLEM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TINU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EW VERSION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UBJECT MATTE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W” SE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LCOHOL AND DRUG ABU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3:24:38Z</dcterms:created>
  <dc:creator>allen d Eury</dc:creator>
  <dc:description/>
  <dc:language>en-US</dc:language>
  <cp:lastModifiedBy>User</cp:lastModifiedBy>
  <dcterms:modified xsi:type="dcterms:W3CDTF">2012-08-22T18:13:44Z</dcterms:modified>
  <cp:revision>3</cp:revision>
  <dc:subject/>
  <dc:title>Psychological Bases for  Curriculum Decisions</dc:title>
</cp:coreProperties>
</file>